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44A-9F79-40F3-962D-EAF4F4B6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98A-E419-4D23-BA73-BCF077C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9DF-40B3-4B66-B65D-CCE1A636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8B1-62AB-4DDF-B580-6DAE0AA0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D06-053C-4E8C-932C-470CF790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101E-6289-4D08-84EA-A75AD539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B80-1D8F-41EB-8B36-E0FDE78B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67E-41BF-462B-BB0A-85890D1C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A7E-569B-4C04-BF2F-AECEDA35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924-B41F-4684-8454-398434BA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CD9-F879-4294-B072-FAA9CE0E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058-F8BE-408B-BEA0-1302DA1F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8ACE-24D8-4BD6-BEE1-B1912B06C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s: Arial 12pt          Lines: 1.75pt          Zoom: 66%          width: Preferred &lt;518px; Max 560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819520"/>
            <a:ext cx="1828800" cy="137160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PC23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7 Ba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controll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505320"/>
            <a:ext cx="68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3124080"/>
            <a:ext cx="533160" cy="76212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50532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000" y="320040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R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0560" y="3200400"/>
            <a:ext cx="4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5295600" y="2933640"/>
            <a:ext cx="1219320" cy="1143000"/>
          </a:xfrm>
          <a:prstGeom prst="triangle">
            <a:avLst>
              <a:gd name="adj" fmla="val 50000"/>
            </a:avLst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9000" y="3276720"/>
            <a:ext cx="68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505320"/>
            <a:ext cx="6098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ound"/>
          <p:cNvSpPr/>
          <p:nvPr/>
        </p:nvSpPr>
        <p:spPr>
          <a:xfrm>
            <a:off x="7010280" y="2971800"/>
            <a:ext cx="1067040" cy="1123920"/>
          </a:xfrm>
          <a:prstGeom prst="pie">
            <a:avLst/>
          </a:prstGeom>
          <a:solidFill>
            <a:srgbClr val="e0e0e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27672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9:33:50Z</dcterms:created>
  <dc:creator>Brett Duke</dc:creator>
  <dc:description/>
  <dc:language>en-US</dc:language>
  <cp:lastModifiedBy>Jim Earle</cp:lastModifiedBy>
  <dcterms:modified xsi:type="dcterms:W3CDTF">2007-12-17T13:39:53Z</dcterms:modified>
  <cp:revision>35</cp:revision>
  <dc:subject/>
  <dc:title>Generic Block Diagram</dc:title>
</cp:coreProperties>
</file>